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21C-EE67-4B3B-B662-784338BCD5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9A0B-D67E-4444-9E36-F9F5F05F1C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79D-405F-4255-945A-9C739C4C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6E9-0952-4A44-BC07-94BD5E1E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4E5-37B1-4370-A04E-A5C4AD95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E0D-FD40-4545-96A1-5F241597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ECA7-0064-401F-82BA-C8BAFAE9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E89B-D0EE-4566-9CE3-223880C0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7773-BC3A-40A2-9DDE-01A4372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6DD9-6E0A-4115-82C4-A383E451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5C4-D533-42A6-A992-68B8D7B3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8A9-60C4-4304-9D10-923F740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49C-117A-4FE9-A509-12000C9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C55-88BF-4430-BE69-9CCBBC2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3962-91D1-4D22-8915-62E0CE6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DB2-B2C2-4E0F-A976-03B3017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C84-AAA7-4247-911B-8DE87A22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F022-9178-4870-83CE-176F8FE3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A5D-556A-48C7-9F69-1E40EB7D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542D-06C8-4B9C-B9A4-DA9315CF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5DBC-F1D8-45F5-9A35-DC0B81AA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2442-551A-40AC-91F4-ECB127E6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60D5-2201-4EC5-A893-793DC0D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A1DE-9AD4-49AD-9822-3A89C6A0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CC4-E40D-4E06-82D6-6FB5EBA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E0AB-6825-4A36-A396-DC951E95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3A75-3487-4574-A9AD-4C8ABB6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5C21-7C0E-45E6-B3D3-581F908A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D2FE-9C1C-4177-B64B-54F9741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3822-0D91-4F4D-B45E-DD85BEAF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E25B-3C94-46EF-88C5-557FFEA2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D4AE-4739-4172-B1EC-7D891EF3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1637-5F2B-4B89-BF02-81DFC1B6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DE91-6D74-46CD-8C27-DF4E85C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8B16-575A-4077-A650-0837D3AC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EA6-C470-402F-ABB6-270BBD3F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EAA9-6737-4B9E-AF4B-0D7C6EC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E3D3-9BB2-4916-9304-1604393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CBB3-7C77-4B83-891E-CE4A9B1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2E97-C251-4A3B-9FD1-5A8C451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E04E-5703-4629-AE75-ADECFA6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4CCE-F982-4058-9D14-FC2975B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0CB0-971D-4531-8363-60FBF37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59A4-5DBF-43AE-B898-965A925E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2B89-776A-49E7-85E5-41582730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5540-A433-4728-90B0-D8591761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2AE-8E4E-4A00-AC8E-3EA9D58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D29A-7F64-4AC7-8850-7E970FA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6AD5-73F4-4B75-A7BF-D360A018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6B707-1C78-4395-8594-6A730F31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247F-5029-46E6-A8C1-195C5AB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9EC8-6419-4AA0-9E06-02C1D2C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A26C-F97A-4230-A23D-F06C86A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BBA1-446E-48CE-8EA0-DF0A92A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08D5-10DE-4F95-BF08-7AED22C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0F19-7D74-44E8-9716-722E75E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40EA-426D-4DCF-9494-DF47C03C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9E4-3EF9-4272-9220-B572625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7EF9-B214-4368-A1BF-CEC630F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6BBF-9723-44DB-892F-EB6516F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4CFC-77F1-4AE3-83F5-A857FC9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AFD7-FDB2-4AB0-ABCA-FB9958F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34E0-037A-4B3C-949A-0CB9600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4F3E-E33B-4BF3-AB32-C8F3286D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C9B7-F7DD-4769-87DF-F3D5D4F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180C-C4FD-4D91-BE95-7ED4E1C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BB92-698D-4D0F-A516-55FB673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C91B-F450-4BF4-A14C-BA8F388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706-4367-4F5A-871E-1FA9659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0893-F337-494B-B24E-206E7BB6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C23C-2EBE-4A98-8280-64DCE8E7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066B-D43D-4500-B172-582489B1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147-CAE8-43A4-B139-070D424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7E3-A5EF-454E-B9F6-340C0F0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06F-CB22-4BF2-9F19-8CBBAD34C4A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2CA-C145-41E9-B31F-AA8CE6A016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936-D1E2-47A8-94E5-AAF02B8478E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F6DF-B356-4254-82E7-81E66B51901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9923-9062-4CE2-914F-F658EE856AE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1EA-5F92-47FC-925F-A17F749E9E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8581-D2B0-428D-9376-5DE272768FC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8FB-8C56-4124-B312-A17E1CE22D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A37-72E8-46F0-9323-B0F6E1DEFFD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5E4F-421A-4412-8B8E-9FA5B4ED89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F42-174C-4B19-968E-B1CFC03C7E7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620-7636-4872-93AB-617F3358AE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73" name="Título 1"/>
          <p:cNvSpPr/>
          <p:nvPr/>
        </p:nvSpPr>
        <p:spPr>
          <a:xfrm>
            <a:off x="627120" y="1341360"/>
            <a:ext cx="109411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CRÉDITO CONSIG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 – DF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75" name="Título 1"/>
          <p:cNvSpPr/>
          <p:nvPr/>
        </p:nvSpPr>
        <p:spPr>
          <a:xfrm>
            <a:off x="334800" y="701640"/>
            <a:ext cx="11247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xa Selic, Taxa de Empréstimo Consignado e Cartão de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m 1" descr=""/>
          <p:cNvPicPr/>
          <p:nvPr/>
        </p:nvPicPr>
        <p:blipFill>
          <a:blip r:embed="rId2"/>
          <a:stretch/>
        </p:blipFill>
        <p:spPr>
          <a:xfrm>
            <a:off x="334800" y="1549440"/>
            <a:ext cx="11449080" cy="49561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2"/>
          <p:cNvSpPr/>
          <p:nvPr/>
        </p:nvSpPr>
        <p:spPr>
          <a:xfrm>
            <a:off x="334800" y="1055520"/>
            <a:ext cx="11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De acordo com a ata do COPOM, a taxa SELIC deverá fechar o ano de 2017 em 7,25%, com previsão de chegar a 7,0%, no início de 201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6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" descr=""/>
          <p:cNvPicPr/>
          <p:nvPr/>
        </p:nvPicPr>
        <p:blipFill>
          <a:blip r:embed="rId2"/>
          <a:stretch/>
        </p:blipFill>
        <p:spPr>
          <a:xfrm>
            <a:off x="334800" y="2205000"/>
            <a:ext cx="11449080" cy="4392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3"/>
          <p:cNvSpPr/>
          <p:nvPr/>
        </p:nvSpPr>
        <p:spPr>
          <a:xfrm>
            <a:off x="334800" y="657360"/>
            <a:ext cx="11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Acumulado das Operações de Crédito realizadas por Instituições Financeiras com Aposentados e Pensionistas do INSS – Junho de 2015 a maio de 2017 – Valor da Operação em Milhares Cor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4"/>
          <p:cNvSpPr/>
          <p:nvPr/>
        </p:nvSpPr>
        <p:spPr>
          <a:xfrm>
            <a:off x="407880" y="658188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2"/>
          <p:cNvSpPr/>
          <p:nvPr/>
        </p:nvSpPr>
        <p:spPr>
          <a:xfrm>
            <a:off x="365040" y="1185840"/>
            <a:ext cx="1123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É importante destacar que, apesar das oscilações observadas na Selic, verifica-se desde novembro de 2016 uma tendência de queda nessa taxa e esse é um dos fatores, juntamente com o baixíssimo risco que essa modalidade de empréstimo oferece às instituições bancárias, para reduzir o teto dos empréstimos consignados do atual patam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334800" y="723960"/>
            <a:ext cx="10801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Carteira Consignado Por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14280" y="2066760"/>
            <a:ext cx="11017440" cy="4537080"/>
          </a:xfrm>
          <a:prstGeom prst="rect">
            <a:avLst/>
          </a:prstGeom>
          <a:ln w="0">
            <a:noFill/>
          </a:ln>
        </p:spPr>
      </p:pic>
      <p:sp>
        <p:nvSpPr>
          <p:cNvPr id="286" name="Retângulo 12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3"/>
          <p:cNvSpPr/>
          <p:nvPr/>
        </p:nvSpPr>
        <p:spPr>
          <a:xfrm>
            <a:off x="314280" y="1052640"/>
            <a:ext cx="1118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Percebe-se um aumento nos pedidos de portabilidade em todas as modalidades e a explicação provável são os cortes da Selic verificados recentemente, ou seja, com a redução da SELIC, ocorre diminuição nos custos de captação de emprést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Quantidade de empréstimos consignados averbados, por aposentados por invalidez, em 2017 (janeiro a agost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Imagem 2" descr=""/>
          <p:cNvPicPr/>
          <p:nvPr/>
        </p:nvPicPr>
        <p:blipFill>
          <a:blip r:embed="rId2"/>
          <a:stretch/>
        </p:blipFill>
        <p:spPr>
          <a:xfrm>
            <a:off x="1055520" y="2652840"/>
            <a:ext cx="9361800" cy="3627360"/>
          </a:xfrm>
          <a:prstGeom prst="rect">
            <a:avLst/>
          </a:prstGeom>
          <a:ln w="0">
            <a:noFill/>
          </a:ln>
        </p:spPr>
      </p:pic>
      <p:sp>
        <p:nvSpPr>
          <p:cNvPr id="291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ângulo 1"/>
          <p:cNvSpPr/>
          <p:nvPr/>
        </p:nvSpPr>
        <p:spPr>
          <a:xfrm>
            <a:off x="407880" y="1413000"/>
            <a:ext cx="113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Analisando os dados de consignados realizados por aposentados por invalidez, percebe-se que mais de 60% desses empréstimos são destinados a pessoas com 60 anos ou mais, e estes não estão comtemplados na revisão dos benefíci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4" name="Título 1"/>
          <p:cNvSpPr/>
          <p:nvPr/>
        </p:nvSpPr>
        <p:spPr>
          <a:xfrm>
            <a:off x="334800" y="765000"/>
            <a:ext cx="1152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ENEFICIÁRIOS DAS ESPÉCIES 32 E 92 COM MENOS DE 60 ANOS NA MACIÇA DE AGOSTO DE 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2" descr=""/>
          <p:cNvPicPr/>
          <p:nvPr/>
        </p:nvPicPr>
        <p:blipFill>
          <a:blip r:embed="rId2"/>
          <a:stretch/>
        </p:blipFill>
        <p:spPr>
          <a:xfrm>
            <a:off x="473040" y="1484280"/>
            <a:ext cx="11246040" cy="4392720"/>
          </a:xfrm>
          <a:prstGeom prst="rect">
            <a:avLst/>
          </a:prstGeom>
          <a:ln w="0">
            <a:noFill/>
          </a:ln>
        </p:spPr>
      </p:pic>
      <p:sp>
        <p:nvSpPr>
          <p:cNvPr id="296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8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OS ATIVOS ATÉ PRIMEIRA SEMANA DE SETEMBRO/2017 E CONTRATOS REALIZADOS POR APOSENTADOS POR INVALIDEZ, COM IDADE ABAIXO DE 6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6" descr=""/>
          <p:cNvPicPr/>
          <p:nvPr/>
        </p:nvPicPr>
        <p:blipFill>
          <a:blip r:embed="rId2"/>
          <a:stretch/>
        </p:blipFill>
        <p:spPr>
          <a:xfrm>
            <a:off x="1055520" y="1587600"/>
            <a:ext cx="10080720" cy="4721040"/>
          </a:xfrm>
          <a:prstGeom prst="rect">
            <a:avLst/>
          </a:prstGeom>
          <a:ln w="0">
            <a:noFill/>
          </a:ln>
        </p:spPr>
      </p:pic>
      <p:sp>
        <p:nvSpPr>
          <p:cNvPr id="300" name="Retângulo 8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302" name="Retângulo 2"/>
          <p:cNvSpPr/>
          <p:nvPr/>
        </p:nvSpPr>
        <p:spPr>
          <a:xfrm>
            <a:off x="334800" y="765000"/>
            <a:ext cx="10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3"/>
          <p:cNvSpPr/>
          <p:nvPr/>
        </p:nvSpPr>
        <p:spPr>
          <a:xfrm>
            <a:off x="479520" y="1268280"/>
            <a:ext cx="1058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 o objetivo de combater fraudes, evitar endividamento excessivo e disciplinar a utilização do cartão de crédito, o INSS estabeleceu, em maio de 2008, novas regras de utilização dos empréstimos consignados. As principais medidas foram: a proibição às instituições de operarem com beneficiários de outros estados; obrigatoriedade de crédito na conta em que o benefício é recebido; limite de crédito no cartão passa de três para duas vezes o valor do benefício; proibição às instituições de oferecer financiamento pelo plano de crédito consignado com prazo de ca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 determinações de ajuste procedidas pelo então MPS nesse programa de crédito têm gerado resultados positivos. Desde a eliminação da TAC, passando por várias reduções de teto de juros, até as últimas medidas para garantir maior segurança ao emprés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 que diz respeito à possibilidade de empréstimos por meio do cartão benefício, o INSS já está desenvolvendo um sistema para Empréstimos Consignados Online – ECO que deverá contemplar essa possib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1" descr=""/>
          <p:cNvPicPr/>
          <p:nvPr/>
        </p:nvPicPr>
        <p:blipFill>
          <a:blip r:embed="rId2"/>
          <a:stretch/>
        </p:blipFill>
        <p:spPr>
          <a:xfrm>
            <a:off x="738360" y="2637000"/>
            <a:ext cx="10440720" cy="3528720"/>
          </a:xfrm>
          <a:prstGeom prst="rect">
            <a:avLst/>
          </a:prstGeom>
          <a:ln w="0">
            <a:noFill/>
          </a:ln>
        </p:spPr>
      </p:pic>
      <p:sp>
        <p:nvSpPr>
          <p:cNvPr id="306" name="Retângulo 2"/>
          <p:cNvSpPr/>
          <p:nvPr/>
        </p:nvSpPr>
        <p:spPr>
          <a:xfrm>
            <a:off x="407880" y="1282680"/>
            <a:ext cx="108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Em relação à solicitação de readequação da taxa atual de juros, a sugestão é que a taxa de empréstimos consignados passe para 2,08%, e do cartão de crédito para 3,0%, pelos motivos ex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7"/>
          <p:cNvSpPr/>
          <p:nvPr/>
        </p:nvSpPr>
        <p:spPr>
          <a:xfrm>
            <a:off x="334800" y="69228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                                                                       02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9-27T15:34:11Z</dcterms:modified>
  <cp:revision>391</cp:revision>
  <dc:subject/>
  <dc:title>Demografia</dc:title>
</cp:coreProperties>
</file>